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403-7085-41DD-87E0-88FC31FE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A9C-644A-459F-98D3-8E8F48F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139-3106-4045-B504-C83E00C3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4F7-0BBF-41C8-B5D9-A74237EC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BE8-A8B8-4F5F-8962-87B48AA4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80E-59F8-437C-9F7B-DF0C739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684-17C1-43EF-B59A-3FBAEA9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DAF-D4A5-4289-8088-332ABA7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DEE-9F14-418C-9598-F975D6D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9AB-0FA4-4079-A08B-DD27139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05C-7D94-4ABC-8906-D0FC1D4B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A4F-7852-4456-92F0-E24327A7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C62-369D-4E8D-BE31-147C365DEFAD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27640" y="321300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5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Rising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Questio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member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etell, restate, re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Topic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Rising petrol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List 2 questions that would have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“overseas conflict affects petrol prices”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as the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7640" y="328464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Dispute this statement by finding new ways to deal with the depleating stocks of pe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Brick Wall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Understand (low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ranslating an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2276640"/>
            <a:ext cx="4392360" cy="71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ick Wall Statement: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Petrol is the only viable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79736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Extra for exper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Think of a brick wall statement for your subject at the mo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0720" y="2421000"/>
            <a:ext cx="439236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rainstorm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(low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possible alternatives to petrol as a source of fu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different use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89000"/>
            <a:ext cx="4392360" cy="1439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pply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Solving, showing, 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860640"/>
            <a:ext cx="439236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Categorise (middle order thinking)</a:t>
            </a: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 brainstorm into non-renewable sources and renewable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ridiculous 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Analyse (middle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xplaining, identifying, separating, investi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1989000"/>
            <a:ext cx="439236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Ridiculou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will be used as the primary source of fuel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284640"/>
            <a:ext cx="439236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omplete a PMI for th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365720"/>
            <a:ext cx="4392360" cy="93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Gothic"/>
              </a:rPr>
              <a:t>Complete a PMI using different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variation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Evalu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Rating, recommending, verifying, sele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781360"/>
            <a:ext cx="4392360" cy="865080"/>
          </a:xfrm>
          <a:prstGeom prst="rect">
            <a:avLst/>
          </a:prstGeom>
          <a:solidFill>
            <a:srgbClr val="ff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whole grou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Decide on 5 factors that could affect 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789360"/>
            <a:ext cx="4392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Think of two more factors that would affect your choice of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4797360"/>
            <a:ext cx="4392360" cy="86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3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Complete the DMM for each fuel and add up the to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5805360"/>
            <a:ext cx="4392360" cy="93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4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entury Gothic"/>
              </a:rPr>
              <a:t>Justify, using the word because in your sentence which fuel you would use and 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flipH="1">
            <a:off x="1834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2518560" y="2518560"/>
            <a:ext cx="68580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if...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189000"/>
            <a:ext cx="4392360" cy="16556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Bloom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reate (higher order thi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entury Gothic"/>
              </a:rPr>
              <a:t>Aim of this tas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Originality, planning, proposing, risk-taking, synthes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24280"/>
            <a:ext cx="4392360" cy="93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1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Write 10 questions that begin with the words “what if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989000"/>
            <a:ext cx="439236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Garbage vs Petrol as a source of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4149720"/>
            <a:ext cx="439236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entury Gothic"/>
              </a:rPr>
              <a:t>Task 2: (small gro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entury Gothic"/>
              </a:rPr>
              <a:t>Choice the best question and predict and justify an answer fo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98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2: The Question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4936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1: Discuss Bloom’s Taxonmy (3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look at the taxonm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to use it quick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644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3: The Brick Wall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141720"/>
            <a:ext cx="4248360" cy="93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5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perspectives PM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PMI from different persp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149720"/>
            <a:ext cx="424836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6: The Variations (15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how to use the DM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Brainstorm as a group the different fac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you can add in jus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how students can use this to write paragraph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302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7: What if… (7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950080"/>
            <a:ext cx="42483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8: BQT (Be Quiet Teach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hoose one question to reflect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494080"/>
            <a:ext cx="4248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100" spc="-1" strike="noStrike">
                <a:solidFill>
                  <a:srgbClr val="000000"/>
                </a:solidFill>
                <a:latin typeface="Century Gothic"/>
              </a:rPr>
              <a:t>Task 4: The Different Uses (10 mi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Explain th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Teachers complete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89000"/>
            <a:ext cx="42483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00" spc="-1" strike="noStrike">
                <a:solidFill>
                  <a:srgbClr val="000000"/>
                </a:solidFill>
                <a:latin typeface="Century Gothic"/>
              </a:rPr>
              <a:t>Sequence of tasks and disu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21:39:10Z</dcterms:created>
  <dc:creator>Elizabeth O'Hagan</dc:creator>
  <dc:description/>
  <dc:language>en-US</dc:language>
  <cp:lastModifiedBy>Kent</cp:lastModifiedBy>
  <dcterms:modified xsi:type="dcterms:W3CDTF">2007-06-21T01:59:00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2505656</vt:r8>
  </property>
  <property fmtid="{D5CDD505-2E9C-101B-9397-08002B2CF9AE}" pid="3" name="_AuthorEmail">
    <vt:lpwstr>eohagan@aorere.ac.nz</vt:lpwstr>
  </property>
  <property fmtid="{D5CDD505-2E9C-101B-9397-08002B2CF9AE}" pid="4" name="_AuthorEmailDisplayName">
    <vt:lpwstr>Elizabeth O'Hagan</vt:lpwstr>
  </property>
  <property fmtid="{D5CDD505-2E9C-101B-9397-08002B2CF9AE}" pid="5" name="_EmailSubject">
    <vt:lpwstr>teaching teachers.ppt</vt:lpwstr>
  </property>
  <property fmtid="{D5CDD505-2E9C-101B-9397-08002B2CF9AE}" pid="6" name="_ReviewingToolsShownOnce">
    <vt:lpwstr/>
  </property>
</Properties>
</file>