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65A-D578-468C-A3D3-D82A129E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0A6-C68E-4791-8F11-EE27ED3B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DA5-12A0-4DB5-A141-B8FD8BF1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E86-BC1B-4A5E-BD90-F553F344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03D-A073-4233-9C13-805AD87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BFE-4446-4F3A-976F-EBF8323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2F2-A871-41F3-B73A-F811D68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6C1-28F6-4D61-80AA-739FBA3E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2DB-9150-456D-BFF0-3C6AC908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FDC-8C4B-4EBB-947A-3171C68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5FF-AF4F-43B8-9129-5F2B656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A65-F8B1-43AD-94A0-DB29665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4D3-9651-4C2C-BB99-91A14376C8DB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321300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5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Rising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Questio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member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tell, restate, re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Topic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ising petrol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2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overseas conflict affects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7640" y="328464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Dispute this statement by finding new ways to deal with the depleating stocks of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rick Wall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Understand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ranslating an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ick Wall Statement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Petrol is the only viable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hink of a brick wall statement for your subject at the mo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242100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ainstorm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(low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possible alternatives to petrol as a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different use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pply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Solving, showing, 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86064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Categorise (middle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brainstorm into non-renewable sources and renewable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idiculous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nalyse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xplaining, identifying, separating, investi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989000"/>
            <a:ext cx="439236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Ridiculou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will be used as the primary source of fuel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284640"/>
            <a:ext cx="439236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omplete a PMI for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4392360" cy="93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ete a PMI using 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variation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valu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ating, recommending, verifying, sel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781360"/>
            <a:ext cx="4392360" cy="86508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whole grou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Decide on 5 factors that could affect 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789360"/>
            <a:ext cx="43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Think of two more factors that would affect y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4392360" cy="86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3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Complete the DMM for each fuel and add up the 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805360"/>
            <a:ext cx="4392360" cy="9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4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Justify, using the word because in your sentence which fuel you would use and 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if...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re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Originality, planning, proposing, risk-taking, synthes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24280"/>
            <a:ext cx="4392360" cy="93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Write 10 questions that begin with the words “what if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4149720"/>
            <a:ext cx="439236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hoice the best question and predict and justify an answer fo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98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2: The Question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4936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1: Discuss Bloom’s Taxonmy (3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look at the taxon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to use it quick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6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3: The Brick Wall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141720"/>
            <a:ext cx="4248360" cy="93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5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perspectives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PMI from different per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149720"/>
            <a:ext cx="42483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6: The Variations (15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how to use the DM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Brainstorm as a group the different f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you can add in jus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students can use this to write paragraph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2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7: What if…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950080"/>
            <a:ext cx="424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8: BQT (Be Quiet Teach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hoose one question to reflect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494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4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Sequence of tasks and disu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21:39:10Z</dcterms:created>
  <dc:creator>Elizabeth O'Hagan</dc:creator>
  <dc:description/>
  <dc:language>en-US</dc:language>
  <cp:lastModifiedBy>Kent</cp:lastModifiedBy>
  <dcterms:modified xsi:type="dcterms:W3CDTF">2007-06-21T01:59:00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2505656</vt:r8>
  </property>
  <property fmtid="{D5CDD505-2E9C-101B-9397-08002B2CF9AE}" pid="3" name="_AuthorEmail">
    <vt:lpwstr>eohagan@aorere.ac.nz</vt:lpwstr>
  </property>
  <property fmtid="{D5CDD505-2E9C-101B-9397-08002B2CF9AE}" pid="4" name="_AuthorEmailDisplayName">
    <vt:lpwstr>Elizabeth O'Hagan</vt:lpwstr>
  </property>
  <property fmtid="{D5CDD505-2E9C-101B-9397-08002B2CF9AE}" pid="5" name="_EmailSubject">
    <vt:lpwstr>teaching teachers.ppt</vt:lpwstr>
  </property>
  <property fmtid="{D5CDD505-2E9C-101B-9397-08002B2CF9AE}" pid="6" name="_ReviewingToolsShownOnce">
    <vt:lpwstr/>
  </property>
</Properties>
</file>