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7980-25F8-4BA9-8F52-F3B6E944E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EFC9-B7E0-463D-B653-07DA5DDB2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CFD5-A6E4-4907-B885-DD8A382F1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4A83-0BF4-4264-AFE0-E722F9E57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604E-7182-477A-AF60-F3FBC9424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6063-D491-4F88-A85D-05C6ECA6C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A875-8E17-45C6-BF08-487709EC6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D125-C2B4-42D8-BE54-1A2B14B27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C4FC-4B03-4E3C-AB9F-F8FF4489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0C59-99F6-473E-A197-A0F8EB20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42AE-09F0-4DF9-BAC6-4D6A8BD4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F2EA-1D45-4B92-B423-D0785A3C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ADFA8-EFA3-41C1-AC0B-19EF7586FA37}" type="slidenum">
              <a:rPr b="0" lang="en-N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 flipH="1">
            <a:off x="1834920" y="0"/>
            <a:ext cx="25923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427640" y="3213000"/>
            <a:ext cx="4392360" cy="1152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Task: (small gro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List 5 questions that would have </a:t>
            </a: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“Rising petrol prices”</a:t>
            </a: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 as the answ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 rot="5400000">
            <a:off x="-2518560" y="2518560"/>
            <a:ext cx="6858000" cy="18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The Question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4500720" y="189000"/>
            <a:ext cx="4392360" cy="1439640"/>
          </a:xfrm>
          <a:prstGeom prst="rect">
            <a:avLst/>
          </a:prstGeom>
          <a:solidFill>
            <a:srgbClr val="cce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Bloom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Remember (low order think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Aim of this tas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Retell, restate, remember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27640" y="2276640"/>
            <a:ext cx="4392360" cy="718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Topic:</a:t>
            </a: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Rising petrol pr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27640" y="4797360"/>
            <a:ext cx="4392360" cy="1152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Extra for expert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List 2 questions that would have </a:t>
            </a: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“overseas conflict affects petrol prices”</a:t>
            </a: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 as the answ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 flipH="1">
            <a:off x="1834920" y="0"/>
            <a:ext cx="259236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427640" y="3284640"/>
            <a:ext cx="4392360" cy="1152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Task: (small gro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Dispute this statement by finding new ways to deal with the depleating stocks of pe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 rot="5400000">
            <a:off x="-2518560" y="2518560"/>
            <a:ext cx="6858000" cy="18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The Brick Wall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189000"/>
            <a:ext cx="4392360" cy="1439640"/>
          </a:xfrm>
          <a:prstGeom prst="rect">
            <a:avLst/>
          </a:prstGeom>
          <a:solidFill>
            <a:srgbClr val="cce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Bloom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Understand (low order think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Aim of this tas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Translating and understa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427640" y="2276640"/>
            <a:ext cx="4392360" cy="718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Brick Wall Statement:</a:t>
            </a: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Petrol is the only viable source of fu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27640" y="4797360"/>
            <a:ext cx="4392360" cy="1152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Extra for expert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Think of a brick wall statement for your subject at the mo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 flipH="1">
            <a:off x="1834920" y="0"/>
            <a:ext cx="259236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500720" y="2421000"/>
            <a:ext cx="4392360" cy="1152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Task 1: (small gro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Brainstorm</a:t>
            </a: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(low order thinking)</a:t>
            </a: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 possible alternatives to petrol as a source of fu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 rot="5400000">
            <a:off x="-2518560" y="2518560"/>
            <a:ext cx="6858000" cy="18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The different uses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4500720" y="189000"/>
            <a:ext cx="4392360" cy="1439640"/>
          </a:xfrm>
          <a:prstGeom prst="rect">
            <a:avLst/>
          </a:prstGeom>
          <a:solidFill>
            <a:srgbClr val="cce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Bloom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Apply (middle order think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Aim of this tas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Solving, showing, u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860640"/>
            <a:ext cx="4392360" cy="1152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Task 2: (small gro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Categorise (middle order thinking)</a:t>
            </a: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 brainstorm into non-renewable sources and renewable sourc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 flipH="1">
            <a:off x="1834920" y="0"/>
            <a:ext cx="259236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 rot="5400000">
            <a:off x="-2518560" y="2518560"/>
            <a:ext cx="6858000" cy="18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The ridiculous 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60" name=""/>
          <p:cNvSpPr/>
          <p:nvPr/>
        </p:nvSpPr>
        <p:spPr>
          <a:xfrm>
            <a:off x="4500720" y="189000"/>
            <a:ext cx="4392360" cy="1655640"/>
          </a:xfrm>
          <a:prstGeom prst="rect">
            <a:avLst/>
          </a:prstGeom>
          <a:solidFill>
            <a:srgbClr val="cce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Bloom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Analyse (middle order think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Aim of this tas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Explaining, identifying, separating, investiga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00720" y="1989000"/>
            <a:ext cx="4392360" cy="1008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Ridiculous Stat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Garbage will be used as the primary source of fuel in the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00720" y="3284640"/>
            <a:ext cx="4392360" cy="792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Task 1: (small gro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Complete a PMI for the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00720" y="4365720"/>
            <a:ext cx="4392360" cy="934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Task 2: (small gro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Complete a PMI using different 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 flipH="1">
            <a:off x="1834920" y="0"/>
            <a:ext cx="259236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 rot="5400000">
            <a:off x="-2518560" y="2518560"/>
            <a:ext cx="6858000" cy="18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The variations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189000"/>
            <a:ext cx="4392360" cy="1655640"/>
          </a:xfrm>
          <a:prstGeom prst="rect">
            <a:avLst/>
          </a:prstGeom>
          <a:solidFill>
            <a:srgbClr val="cce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Bloom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Evaluate (higher order think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Aim of this tas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Rating, recommending, verifying, selec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2781360"/>
            <a:ext cx="4392360" cy="865080"/>
          </a:xfrm>
          <a:prstGeom prst="rect">
            <a:avLst/>
          </a:prstGeom>
          <a:solidFill>
            <a:srgbClr val="ff66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Task 1: (whole group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entury Gothic"/>
              </a:rPr>
              <a:t>Decide on 5 factors that could affect our choice of fu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3789360"/>
            <a:ext cx="4392360" cy="863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Task 2: (small gro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entury Gothic"/>
              </a:rPr>
              <a:t>Think of two more factors that would affect your choice of fu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00720" y="1989000"/>
            <a:ext cx="4392360" cy="648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Top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Garbage vs Petrol as a source of fu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00720" y="4797360"/>
            <a:ext cx="4392360" cy="8650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Task 3: (small gro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entury Gothic"/>
              </a:rPr>
              <a:t>Complete the DMM for each fuel and add up the tot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00720" y="5805360"/>
            <a:ext cx="4392360" cy="935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Task 4: (small gro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entury Gothic"/>
              </a:rPr>
              <a:t>Justify, using the word because in your sentence which fuel you would use and wh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 flipH="1">
            <a:off x="1834920" y="0"/>
            <a:ext cx="259236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 rot="5400000">
            <a:off x="-2518560" y="2518560"/>
            <a:ext cx="6858000" cy="18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What if...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74" name=""/>
          <p:cNvSpPr/>
          <p:nvPr/>
        </p:nvSpPr>
        <p:spPr>
          <a:xfrm>
            <a:off x="4500720" y="189000"/>
            <a:ext cx="4392360" cy="1655640"/>
          </a:xfrm>
          <a:prstGeom prst="rect">
            <a:avLst/>
          </a:prstGeom>
          <a:solidFill>
            <a:srgbClr val="cce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Bloom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Create (higher order think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Aim of this tas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Originality, planning, proposing, risk-taking, synthesi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00720" y="2924280"/>
            <a:ext cx="4392360" cy="936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Task 1: (small gro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Write 10 questions that begin with the words “what if…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00720" y="1989000"/>
            <a:ext cx="4392360" cy="648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Top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Garbage vs Petrol as a source of fu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4149720"/>
            <a:ext cx="4392360" cy="1008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Task 2: (small gro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Choice the best question and predict and justify an answer for 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79280" y="1198440"/>
            <a:ext cx="4248360" cy="59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100" spc="-1" strike="noStrike">
                <a:solidFill>
                  <a:srgbClr val="000000"/>
                </a:solidFill>
                <a:latin typeface="Century Gothic"/>
              </a:rPr>
              <a:t>Task 2: The Question (7 min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Explain the task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Teachers complete tas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9280" y="549360"/>
            <a:ext cx="4248360" cy="59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100" spc="-1" strike="noStrike">
                <a:solidFill>
                  <a:srgbClr val="000000"/>
                </a:solidFill>
                <a:latin typeface="Century Gothic"/>
              </a:rPr>
              <a:t>Task 1: Discuss Bloom’s Taxonmy (3 min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Teachers look at the taxonm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Explain how to use it quickl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9280" y="1846440"/>
            <a:ext cx="4248360" cy="59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100" spc="-1" strike="noStrike">
                <a:solidFill>
                  <a:srgbClr val="000000"/>
                </a:solidFill>
                <a:latin typeface="Century Gothic"/>
              </a:rPr>
              <a:t>Task 3: The Brick Wall (7 min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Explain the task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Teachers complete tas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9280" y="3141720"/>
            <a:ext cx="4248360" cy="93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100" spc="-1" strike="noStrike">
                <a:solidFill>
                  <a:srgbClr val="000000"/>
                </a:solidFill>
                <a:latin typeface="Century Gothic"/>
              </a:rPr>
              <a:t>Task 5: The Different Uses (10 min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Explain the task PM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Teachers complete task PM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Explain the perspectives PM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Teachers complete PMI from different perspectiv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4149720"/>
            <a:ext cx="4248360" cy="109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100" spc="-1" strike="noStrike">
                <a:solidFill>
                  <a:srgbClr val="000000"/>
                </a:solidFill>
                <a:latin typeface="Century Gothic"/>
              </a:rPr>
              <a:t>Task 6: The Variations (15 min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Explain the how to use the DMM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Brainstorm as a group the different facto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Teachers complete tas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Explain how you can add in justific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Explain how students can use this to write paragraphs wit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5302080"/>
            <a:ext cx="4248360" cy="59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100" spc="-1" strike="noStrike">
                <a:solidFill>
                  <a:srgbClr val="000000"/>
                </a:solidFill>
                <a:latin typeface="Century Gothic"/>
              </a:rPr>
              <a:t>Task 7: What if… (7 min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Explain the tas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Teachers complete tas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9280" y="5950080"/>
            <a:ext cx="4248360" cy="42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100" spc="-1" strike="noStrike">
                <a:solidFill>
                  <a:srgbClr val="000000"/>
                </a:solidFill>
                <a:latin typeface="Century Gothic"/>
              </a:rPr>
              <a:t>Task 8: BQT (Be Quiet Teacher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Teachers choose one question to reflect 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9280" y="2494080"/>
            <a:ext cx="4248360" cy="59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100" spc="-1" strike="noStrike">
                <a:solidFill>
                  <a:srgbClr val="000000"/>
                </a:solidFill>
                <a:latin typeface="Century Gothic"/>
              </a:rPr>
              <a:t>Task 4: The Different Uses (10 min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Explain the tas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Teachers complete tas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9280" y="189000"/>
            <a:ext cx="424836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Sequence of tasks and disuss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3T21:39:10Z</dcterms:created>
  <dc:creator>Elizabeth O'Hagan</dc:creator>
  <dc:description/>
  <dc:language>en-US</dc:language>
  <cp:lastModifiedBy>Kent</cp:lastModifiedBy>
  <dcterms:modified xsi:type="dcterms:W3CDTF">2007-06-21T01:59:00Z</dcterms:modified>
  <cp:revision>7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92505656</vt:r8>
  </property>
  <property fmtid="{D5CDD505-2E9C-101B-9397-08002B2CF9AE}" pid="3" name="_AuthorEmail">
    <vt:lpwstr>eohagan@aorere.ac.nz</vt:lpwstr>
  </property>
  <property fmtid="{D5CDD505-2E9C-101B-9397-08002B2CF9AE}" pid="4" name="_AuthorEmailDisplayName">
    <vt:lpwstr>Elizabeth O'Hagan</vt:lpwstr>
  </property>
  <property fmtid="{D5CDD505-2E9C-101B-9397-08002B2CF9AE}" pid="5" name="_EmailSubject">
    <vt:lpwstr>teaching teachers.ppt</vt:lpwstr>
  </property>
  <property fmtid="{D5CDD505-2E9C-101B-9397-08002B2CF9AE}" pid="6" name="_ReviewingToolsShownOnce">
    <vt:lpwstr/>
  </property>
</Properties>
</file>