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E84-D527-4062-AEF7-81A37192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29D-68D5-467E-BB11-6EB5F9A4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C69-1F53-4F42-968E-F3EBB5E2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D34-3A3B-42A5-A76E-C77E731F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B46-F472-48D3-A4C0-0900362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9B0-4BB1-4F34-AC62-409E5702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78F-1FA9-44A2-8B71-BA2A9A54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D74-DD2B-4B2B-97D6-B39CDBA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03B-F4B1-4C25-9542-E9003C4D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7B0-3C14-459D-BFEC-A26A1BC8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D20-DACF-426E-96A2-F5B17720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4F1-BE11-43B1-B32E-0BF6DCD9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7595-F50A-4736-BB99-EC651C4A09D7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27640" y="321300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5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Rising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Questio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member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tell, restate, rememb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Topic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ising petrol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2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overseas conflict affects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7640" y="328464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Dispute this statement by finding new ways to deal with the depleating stocks of pe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rick Wall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Understand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ranslating and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ick Wall Statement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Petrol is the only viable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hink of a brick wall statement for your subject at the mo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242100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ainstorm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(low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possible alternatives to petrol as a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different use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pply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Solving, showing, 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86064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Categorise (middle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brainstorm into non-renewable sources and renewable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ridiculous 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nalyse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xplaining, identifying, separating, investi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1989000"/>
            <a:ext cx="4392360" cy="10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Ridiculou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will be used as the primary source of fuel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284640"/>
            <a:ext cx="439236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omplete a PMI for th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365720"/>
            <a:ext cx="4392360" cy="93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ete a PMI using different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variation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valu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ating, recommending, verifying, sele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781360"/>
            <a:ext cx="4392360" cy="865080"/>
          </a:xfrm>
          <a:prstGeom prst="rect">
            <a:avLst/>
          </a:prstGeom>
          <a:solidFill>
            <a:srgbClr val="ff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whole grou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Decide on 5 factors that could affect 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789360"/>
            <a:ext cx="43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Think of two more factors that would affect y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4797360"/>
            <a:ext cx="4392360" cy="86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3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Complete the DMM for each fuel and add up the to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805360"/>
            <a:ext cx="4392360" cy="93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4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Justify, using the word because in your sentence which fuel you would use and 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if...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re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Originality, planning, proposing, risk-taking, synthes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24280"/>
            <a:ext cx="4392360" cy="93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Write 10 questions that begin with the words “what if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4149720"/>
            <a:ext cx="439236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hoice the best question and predict and justify an answer for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98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2: The Question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4936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1: Discuss Bloom’s Taxonmy (3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look at the taxonm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to use it quick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6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3: The Brick Wall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141720"/>
            <a:ext cx="4248360" cy="93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5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perspectives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PMI from different persp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149720"/>
            <a:ext cx="424836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6: The Variations (15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how to use the DM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Brainstorm as a group the different fa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you can add in jus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students can use this to write paragraph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302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7: What if…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950080"/>
            <a:ext cx="424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8: BQT (Be Quiet Teach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hoose one question to reflect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494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4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89000"/>
            <a:ext cx="42483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Sequence of tasks and disu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21:39:10Z</dcterms:created>
  <dc:creator>Elizabeth O'Hagan</dc:creator>
  <dc:description/>
  <dc:language>en-US</dc:language>
  <cp:lastModifiedBy>Kent</cp:lastModifiedBy>
  <dcterms:modified xsi:type="dcterms:W3CDTF">2007-06-21T01:59:00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2505656</vt:r8>
  </property>
  <property fmtid="{D5CDD505-2E9C-101B-9397-08002B2CF9AE}" pid="3" name="_AuthorEmail">
    <vt:lpwstr>eohagan@aorere.ac.nz</vt:lpwstr>
  </property>
  <property fmtid="{D5CDD505-2E9C-101B-9397-08002B2CF9AE}" pid="4" name="_AuthorEmailDisplayName">
    <vt:lpwstr>Elizabeth O'Hagan</vt:lpwstr>
  </property>
  <property fmtid="{D5CDD505-2E9C-101B-9397-08002B2CF9AE}" pid="5" name="_EmailSubject">
    <vt:lpwstr>teaching teachers.ppt</vt:lpwstr>
  </property>
  <property fmtid="{D5CDD505-2E9C-101B-9397-08002B2CF9AE}" pid="6" name="_ReviewingToolsShownOnce">
    <vt:lpwstr/>
  </property>
</Properties>
</file>